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7960" y="763200"/>
            <a:ext cx="5492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15C96-2886-458D-B231-C5408AED9B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D39-8FCF-4D66-A4BF-78F66100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74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328640"/>
            <a:ext cx="82774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985-78AB-47CA-9748-F17E80C1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16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FD1-0BB6-4848-9763-FFA88D9A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280" y="197928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6920" y="197928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32864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280" y="432864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6920" y="432864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E9D-ED8D-409B-AEA4-E7305EDB8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F320-F7ED-4B72-AD37-9FAAD510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4AC6-FC15-4B06-8093-0F30ED35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D441-2152-4866-96AF-87A31D60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E650-45BF-47F8-832A-DA104CA8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CD49-9D6D-4108-AA08-90E9E83B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748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B916-0351-4636-ABF2-3EFA77E1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964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5339-2945-497E-9900-88E39207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BD4-7FD3-4C6E-8771-59DA4CC0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116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0169-4E1C-413A-91CB-323821CF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9640" y="4328640"/>
            <a:ext cx="82774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996B-F2BF-4338-B570-ACE027A3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74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9640" y="4328640"/>
            <a:ext cx="82774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AEA0-B203-40CB-A1BF-7E4E6764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964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116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EC72-C476-4735-BAA9-0E49D78D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8280" y="197928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6920" y="197928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9640" y="432864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8280" y="432864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6920" y="432864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2E94-98D4-4A94-A800-AFE0CEF4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BD7-B469-44FA-9261-47D24995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5A5-2A03-4C6F-BC39-E4C44905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653-4947-4D68-B248-70A27C01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748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B26-CD47-40E8-B27C-C57D66FC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509-E844-4680-94FA-6488BD18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16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B88-0B32-4C6E-B861-10AD4E18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328640"/>
            <a:ext cx="82774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93BD-F60A-409E-B948-A34AF169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AE40C-C719-4751-B460-DF8EC60066C3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10F25-F141-4498-B888-E57AD93AE5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dR9PGikT-ug&amp;feature=related" TargetMode="External"/><Relationship Id="rId3" Type="http://schemas.openxmlformats.org/officeDocument/2006/relationships/hyperlink" Target="http://learningresourcescentre.pbworks.com/Poetry-Week-Videos" TargetMode="External"/><Relationship Id="rId4" Type="http://schemas.openxmlformats.org/officeDocument/2006/relationships/hyperlink" Target="http://www.youtube.com/watch?v=O9zNMlcFn8c" TargetMode="External"/><Relationship Id="rId5" Type="http://schemas.openxmlformats.org/officeDocument/2006/relationships/hyperlink" Target="http://www.youtube.com/watch?v=Yh9f4fDURc4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oemhunter.com/p/m/l.asp?p=1&amp;l=Top500&amp;order=title" TargetMode="External"/><Relationship Id="rId3" Type="http://schemas.openxmlformats.org/officeDocument/2006/relationships/hyperlink" Target="http://famouspoetsandpoems.com/country/Canada/Canadian_poets.html" TargetMode="External"/><Relationship Id="rId4" Type="http://schemas.openxmlformats.org/officeDocument/2006/relationships/hyperlink" Target="http://www.lyrics.com/" TargetMode="External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20720" y="539640"/>
            <a:ext cx="8640720" cy="6840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765000"/>
            <a:ext cx="8280360" cy="56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727200"/>
            <a:ext cx="56498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Poetry 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Video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827892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glish Language 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tco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CO #8 - Students will be expected to use writing and other forms of representation to explore, clarify, and reflect on their thoughts, feelings, experiences, and learnings; and to use their imagi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*Covers a variety of specific outcomes for each g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00000" y="76500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0360" y="2519280"/>
            <a:ext cx="5940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sey at the Bat – Ernest Theyer </a:t>
            </a:r>
            <a:r>
              <a:rPr b="0" lang="en-CA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youtube.com/watch?v=dR9PGikT-ug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60360" y="1800360"/>
            <a:ext cx="67550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icture Videos</a:t>
            </a:r>
            <a:br>
              <a:rPr sz="1800"/>
            </a:br>
            <a:r>
              <a:rPr b="0" lang="en-CA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learningresourcescentre.pbworks.com/Poetry-Week-Vid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60360" y="3419640"/>
            <a:ext cx="5077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othing Gold Can Stay – Robert Fr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youtube.com/watch?v=O9zNMlcFn8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60360" y="4319640"/>
            <a:ext cx="50263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Love Song – William Carlos William</a:t>
            </a:r>
            <a:br>
              <a:rPr sz="1800"/>
            </a:br>
            <a:r>
              <a:rPr b="0" lang="en-CA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www.youtube.com/watch?v=Yh9f4fDU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827892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ere to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ick a poem or write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100 Essential Modern Poem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dited by Joseph Par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500 popular poems: </a:t>
            </a:r>
            <a:r>
              <a:rPr b="0" lang="en-CA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poemhunter.com/p/m/l.asp?p=1&amp;l=Top500&amp;order=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nadian Poets: </a:t>
            </a:r>
            <a:r>
              <a:rPr b="0" lang="en-CA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famouspoetsandpoems.com/country/Canada/Canadian_poe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yrics: </a:t>
            </a:r>
            <a:r>
              <a:rPr b="0" lang="en-CA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lyric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827892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ndows Movie 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hoto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ther sugg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827892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pretation (metaphorically/liter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isual imagery (movements, color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unds (music and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ice overs an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a plan/outline for your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827892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ssignmen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-3 people pe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ue in 2 weeks (will have ~4-5 clas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 work on project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~1 page explaining your interpretation of the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2:24:49Z</dcterms:created>
  <dc:creator>Afton Piercy</dc:creator>
  <dc:description/>
  <dc:language>en-US</dc:language>
  <cp:lastModifiedBy>Afton Piercy</cp:lastModifiedBy>
  <dcterms:modified xsi:type="dcterms:W3CDTF">2010-06-22T12:47:59Z</dcterms:modified>
  <cp:revision>2</cp:revision>
  <dc:subject/>
  <dc:title/>
</cp:coreProperties>
</file>